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FB3-6AD1-42E8-9D94-FD9EA0BF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977-BB63-4797-BD93-726B2550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F53-1BEE-4D84-BEBF-6EE1209F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7E6-B0C2-42E6-BF69-75CA03FC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799-C116-442E-AB51-526337F0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2AB-8546-43C7-8BED-4DBA586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A1C-AE74-4BCE-A090-E99495C9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7F2-3B75-4BCE-ACA1-5B94AF70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FF9-FA7C-483F-8EE9-7932A76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208-538B-48CD-9AE4-496ED5D9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478-ED63-4F4C-B28F-9C6958C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CF4-2A68-4BB1-AA46-545BFD0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C49-936F-4A8D-A2E0-F06FB61D6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5360" y="2743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ail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7320" y="28195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90512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838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60280" y="304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1752480" cy="15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838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240" y="27036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1600200" cy="144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41360" y="304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352680" y="32004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762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1:08:29Z</dcterms:created>
  <dc:creator>Student</dc:creator>
  <dc:description/>
  <dc:language>en-US</dc:language>
  <cp:lastModifiedBy>Student</cp:lastModifiedBy>
  <dcterms:modified xsi:type="dcterms:W3CDTF">2009-01-14T21:19:02Z</dcterms:modified>
  <cp:revision>3</cp:revision>
  <dc:subject/>
  <dc:title>Slide 1</dc:title>
</cp:coreProperties>
</file>